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F9FDC-82B8-449C-92A6-3B2A0ACC70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D6613-D5D7-4957-88B2-066D75EC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B25BC93-E312-4CE4-9AE0-284557DA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D5C3E4-2BAD-4B06-A037-F9F1EDB84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74F794-9541-479A-AE51-E39D13C8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72FEF7-9982-4D5A-81E3-D4441FF3B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5A862B-6B9D-4C40-8F21-959174F9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CDB03-C0D9-47D4-9C78-F4BACD63C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90F964D-5FD5-43C8-BF07-20FE0D05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C9CBE6-0B74-49E0-9EDE-4BFD1A3CC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BACEF-0D86-4E2D-A52C-D7EB2A20AE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6A829-9B27-4ADB-821F-A33A93D815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9018A-5916-455C-87F3-B07A70D0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99425-A797-4052-93DB-841FF360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3DE116-3C8B-4F58-938A-D0ACEB378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85198-85CA-476E-8060-1C346CFA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4707D8-4F12-4E76-80E9-7A718673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0008-98DD-4DA0-AA38-071FF526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BDC77-1A48-41DE-AAC5-A24309E1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5A5B2-F112-4795-8A37-0F274EF1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81BAC-2BF3-47B1-9EF5-6C5ADA6FA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B2089-2131-4D87-B5C8-11AA2A7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1CA9A-E845-4179-9C1E-846FF1C2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1ECEA-3DDB-4028-B0D5-FE7B137F27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12A69-247D-4527-8B61-B98B2B0D27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83CE0B-1568-4093-8BF2-89D2F91F32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C75B29-BF4C-4A60-8EA3-B48DBB28E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577047-3CC3-411C-BADB-2082EE51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CAE3C1-D73C-4C9C-AFC1-061D23FB1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F6F2ABE-74D2-4A8B-B53E-1021735A4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AD092F-C49E-4803-8CCE-D98C51436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D23D8B-8CE8-4239-8C58-4D172F91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0594F7-9056-4844-8391-5597FBD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25D5CB-43A3-4303-892B-416E06D3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C1D74F-25FA-4236-B545-76BD4777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021D57-43BB-46DF-9D02-BCCC5E91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1F5273-3E65-492D-B719-DD38C10B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3C7508-A62B-4418-BA05-422C15D4AB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C4B95D-3720-41B4-AB42-46A932027D3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D5AE72-A763-412C-948B-E6A13C395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C7147-B61F-4123-919B-478E3377C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DB8AA-20A1-4809-8938-7E1A4C31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71E5DB-A80C-4A92-8883-70C520558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3C0A61-F918-4996-9882-E113D88A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23517-DBC4-4C6D-B3EA-8B5624CF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D5DBA-F201-42EB-86CF-ED10544D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D6EC0A-4E90-4A37-A54C-CF2BAA00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671193-3C6E-4435-ADDA-DE4FD2EA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B682B-A25B-4BC4-8808-415B03E1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94094-1B3C-4C43-A28E-441B646E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9C190-4F86-4FF1-8E58-3A34C1C387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AF5F-8FB1-4D52-8381-463940C775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87EA7-5D2A-4910-B7DA-BF99D1C7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093B1-FFCB-44CA-A05F-CAAEBA67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20632-A474-4229-A803-9E40ACD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199AC-E055-4FB1-8FCD-EFAF8A51E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BF04BB-8452-40F0-ACFA-430678ED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BBF9E-01DB-4616-88D7-F1AD1F4AB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9C422-F8FE-4491-AD76-C7DF4D9A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29898-432B-4813-8B2A-6EFFBCDB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F6F4B-E70A-459E-BBA6-C1730310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97266-E419-49AC-97E4-5267809D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F626-0178-4852-A6E2-B7600477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A504B3-BD46-435E-A8DD-44CE94B00F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02A0B-4248-4A39-9EBD-28689FB63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311D89-63E7-46C3-9B46-958BAE6F7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22A6D-1346-4828-A2C2-7457386A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B1C330-5E53-4DA3-86E3-57E8B75D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2AC0E0-130E-4C07-BA26-4F756059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2ABB8-6446-4772-B32A-308A1914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C34DD-C909-4640-9E7A-04F974CFC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2CAD2F-CAA2-4438-BB6D-21A4AEC1F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AA0A9-8013-47B5-9727-410D7E44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AA09DC-179E-4900-832F-101390D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8629B8-FC2B-4507-93D7-3ACF01B7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196D9-53D9-445B-B456-F70941F4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1EEE8-3425-4DC8-81CB-DFE5735A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6C5AC-3ADF-4824-A757-AB77D00BC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0FA93F-F475-4D97-B3E4-C48652B4A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B2ACB-56FD-4BD9-85EC-40DEAC26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7DD3F-5305-4528-BA2F-A513D58E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9EBB9-7F24-4F0B-AB4C-991787B88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18FBF-7000-41AA-8101-4299D083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FC4D4-D3AC-47B1-BDA2-74910DDF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5E587-703C-4C84-B0AB-AA15F043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352AB-F363-4930-B2C5-4E4BA286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8CF6E-BEBA-41BE-8A55-00D475CE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C942D-A33F-41A0-B3B4-113BBA55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382C6B-5920-40C6-A66B-8033318A7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49DDCC-A2FB-4FA9-B89C-2629FE3B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B131A-674F-41FA-8155-41550613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84D07-D246-41A4-8674-B00220A6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0C832-BD28-4C30-B434-03AFB1E27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02193C-D9D4-479A-AE45-BA90B174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D04FE9-04CA-40CA-BBD4-072EC37C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827E8-05EC-49A3-9AC1-31A621C67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9D7BC-83C2-46AC-BC84-334EC386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37A9E7-07F3-4FF5-A215-E1543733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DCA8EF-9A72-4101-A3B0-785FAE6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D5553C-476F-4A5B-A5BF-E32DAFE4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BD576-F91D-4201-AEBC-65040528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6F364-D70D-4C6B-99EA-637FE184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AC12B-D024-4CD9-B612-6A1157D3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452BD-E7AC-466F-89CD-87000820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11ED3A-821E-46B8-95AC-D5EB43260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F5C2C-AA50-4162-B84D-E36E87B4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3A6A4-B6D7-430F-9BA7-2E16A90D8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8E86FE-E664-4278-85FA-8BDDB5F58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91959B-DC9E-4885-B306-C6540760D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D2E8F7-3B24-4BD0-AFC4-F44D81D0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89C8E3-2294-4FCD-990A-55DBAB25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4F85-2C04-4A03-A81B-3390FAD0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CFDCDD-7F15-488C-BEE7-A62B1A99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076FED-EEA1-4571-9AEC-E9453DE9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A7C2F1-4AE6-4B7E-A301-96089A2D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A5EBF9-EEF2-4440-94C3-99CF750B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46B6D-B51C-48DB-8DB2-761BCCD13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F520C-B5D4-4114-B0D6-539F5E92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F68E2-47C5-4E6B-9597-D4793AA5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8914EE-EA9F-457F-AAB2-6BA8AD0D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9FA826-B255-48C8-948F-F6E3A7FE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90AC1-3D22-4BB7-A98C-694F870B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E0FE05-F099-4202-834E-C67C2717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251D70-5815-42A0-8EF8-ECDD23B2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649E8-5BA6-4F8A-BD39-37957D39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4E05D9-508A-45E5-9875-EB7C3318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B78C81-DBF6-42C8-ACA2-CC0D06B8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94633D-498A-495A-B434-39CD8116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52653-7F2F-4A82-AB4D-FE2C1C17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1FCAA8-1E1A-4261-8E02-DDF94D4F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6AFE8-A324-4389-B841-4BA57532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737AAC-9D27-4AEF-8077-3F411CCE2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BD0244-3564-489D-B617-75872717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448463-70F5-4BE3-BD41-68ADA48DC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D833-089D-43A7-9B28-150A8DB7A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688C64-5B3E-46FA-A91D-F0C9073F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CF2FF6-A265-442D-850A-8EE0F669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25430-FBD7-464B-BEA1-46151A5B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B9202B-886F-45C9-97DE-62C0ED7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927A6-5EDC-4342-B39F-2C9C651A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9992E3-DB31-49DA-BB06-D399639F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D3087-9880-4F26-885A-033A7F5F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6B6497-33C9-4496-8FA4-4A3B513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B0583B-73C5-4651-96D0-FA82195D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B7F81A-4C42-4428-935E-F840E6AA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4773FF-416D-4A39-BAD0-705894C14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92C6A1-5E0E-4B92-A42A-5B8D2565C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5EFA96-0566-4C9E-9FB8-EE82DBC05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7530F7-70D2-4BAC-AC78-DBDCC433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BA422F-797F-41D3-B85E-E3B72FF5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B30DA4-3E8E-47D2-882A-0AD77438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EAE046-E1A8-4986-A1DD-D461FCE9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CAD94-920D-414D-8A68-FC6FC7C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5B7569-159A-4CF5-A671-1C52D61E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71FBC-557E-455E-A38A-A265872B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C02245-41A0-4DD4-B45D-8459D829E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BB6D1-0D7F-4AD0-8513-8FF6FEB70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4D9DB6-A514-45A9-A240-1F328469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1D84B5-F82C-44FD-B1A5-6FE2A8FE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D41BB-86B7-4E62-ACC0-9AD58E7C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8ACFC-A405-4399-B98C-397F5B2C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5B9D5F-1B27-467C-A137-F9E8941B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134189-E8A9-48BF-A7CF-EBCCE761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180B0B-C81B-4BE7-8F21-3490EB59E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70766D-4853-4AA1-9E44-1742D05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B03D0B-0625-4359-9BB8-CFD68118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358F82-ACF4-418C-9E17-F2D638F7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4E7D48-9212-4A5C-B41B-314CE57802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F456EC-1B93-464D-B9F1-B57B0714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87228-92A9-4706-BF12-57103187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4BF1DB-86BE-4AEC-AE9D-3AAB7A60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8E59A1-D077-40EC-B46F-B64311527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2864E-AEA3-4B44-8534-211C2C75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412F06-C129-4681-B185-946E7BE2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F4F229-F94B-4548-88D7-CB5AC3D7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0D370-4FA4-4F4E-9F85-9096AA33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A8480B-C2AE-4E25-ADD1-58D688913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FA946-1EE2-4A3A-9429-FAA198A6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1B197E-5EDA-4C4A-B3A7-E08C904E1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35BF8-5346-48D5-87FF-05B461A3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DB3A9-FBB2-4159-B8F8-B9493EA1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DF22CD-0BC2-4A79-AF6E-D89FD842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8414F9-FA25-4E2A-BBC3-BD5AC36DB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4EB996-7BB0-42B5-99EA-94E919A8A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7CE2C6-5405-4C2B-956C-1737B03E9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BA4D4B-B560-4475-9C51-E387BB3D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0D55A0-7FE6-4221-94BC-EDADEFA2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E5CCB9-AF39-4004-87FD-BCD0F951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7CC07A-35F7-46AD-8E83-AC424FAA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D09610-FA53-4C6B-BFAF-5BAF70E5E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21F381-E0CB-4899-933A-644513F50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F3114B-B4AF-4875-95C9-01F1B3E4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1FCDF-CFF6-4095-BF94-1A72BD81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35D58-88EA-4480-8D4D-8292AF31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D8A5F2-67D9-48F4-B39B-0EFE8E16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3E5E4E-40DC-4F6C-AEDF-473CC35D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4B16FE-814E-4B90-A129-336123857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7F131C-AEA5-4E24-BD17-3E60435E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9BD2A0-8C4C-4CEE-B620-E39BF8EEB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BCC86F-FD20-4D12-8E9D-56CE0A1C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DF4A4-123B-4079-A33C-A82CAE68A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9D00FE-F568-4C07-8569-ED938CBC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FA637D-A8C9-4720-AD63-53BE9D18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E77576-9119-4511-83F7-562B5DE7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B40037-5F59-4DCF-9A9D-ED8D75F0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AA3BC2-2C07-4C70-ADE0-FFDCCC98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7DB3F3-8FC7-4F45-BF76-E5EC0CB2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670CBE-CE60-422C-A5E0-E9BEA2D9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76620-F236-40E7-8411-70EF5396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AEC49E-89BB-4E84-A67E-31C1627F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05B438-8B09-4A97-A6D7-E7879A7BE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9CB1E-D692-4D92-857B-334411E8F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9728F2-4932-4397-9410-05B80DBC3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FC65E8-8F17-4156-96B2-5C5CFCA9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5E8C8-EE03-4F10-B65B-EA433A06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BB3B7C-5DF1-475D-B80F-D14909AA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0B53F-33A2-464D-9501-E8D0DF4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C1E11-93A5-40FC-9FCE-8ED96D0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6E669-A32A-4268-A822-4818F4BA51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A5525-B83D-43CE-9FB1-3C7D9FBB7F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86F8F-741B-4C54-8D4B-08C85A143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2D065-F015-4966-A20A-E16DD3A2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FDA35E-6897-4547-A244-24428029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4DC5B-C2FC-48DB-97C7-81489158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7D184-AB6C-43C9-83CB-1A25FF45E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4CF3E-48FB-4AAB-ABF4-3E901A9AD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5639C-1CBF-40C4-BB7F-E4FBC82C7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2F959-8402-44F9-8D5A-8BE2995A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07A6E-4A4F-42C9-B146-3780F321E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87332-98DB-4276-966E-741A35EA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6B376-6572-4969-99EB-39A4D8AC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070DD-9997-4A21-8F2A-5014D8DB71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439F94-4A70-44D2-8462-92CE3AEEDD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72029-8E5D-4BE7-B3B5-854594D96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FFDDC5-968E-4795-85A4-23C5B795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953918-0CE9-46C1-860E-40E46763B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53F25-0EB9-4548-AFF9-BED0D7273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C444E-0EFF-47EE-9082-C2BD5C91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A2657D-27BB-4A62-A0E5-D9F75229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9EC18E-0B51-4052-B17E-6A72E8F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E8B92-32B9-428B-8472-3B236B34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B0AFD-44AF-44CB-AEFE-C381D347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9FF574-75C3-4E23-8AA0-79BAF411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FB4792-C886-44B7-A780-717C5BA98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B52EE-EAC5-4C06-B88A-4C8BAC320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94ECFD-FAC9-447C-9428-5FB898D398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8CAC59-AF56-4963-930C-221236107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DAEADC-43A0-4E85-AB9C-9B2DAA5B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DC532-1FFD-4790-BAD7-50883BB7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81A8A-E07D-4A31-BBEE-3777B31B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C040A3-36E8-4545-B614-7BBF2E3B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3E1C4-6563-4486-B931-1E20E4B7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2CBBDB-F5E0-482A-A708-E59A3EF6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D75B5-EFA1-49D5-8EB3-911B095E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76EB20-73BC-48D9-B608-F65571C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38A8C-793E-4425-9C21-B52779F6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E745EA-EACD-4407-8F9C-113E01D54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83CC3F-4B24-436E-B309-675453D7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F4C0ED-E5AC-49E3-846F-C759EFAF93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89A47-AF94-4E91-AC4B-DE6AEB84D1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67DB0-BE3C-4C86-ADC7-AE365831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BC6B0-CE12-4551-A530-359AA19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093CA-C2E1-4DDB-AC78-42B574AA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ABD8-3A96-4AD3-822F-7DFB07125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74ECB-0F5E-43EC-87C7-949924EA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F1F39-497A-477D-AA52-424EFB56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2CD21-2BD8-4A18-97D8-78792EB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2C526-9414-4AAB-BA97-2A14B4A6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57425-C03E-40CE-87F1-F1779878A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0026D-F7E5-4504-98C7-3E897722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ED439-0C50-4B64-83B7-7E381286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B82B-B7B5-4E70-92DA-AE32EE3F0A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9185AB-C1F5-4131-8A94-1C914B5BD1B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79454E-6B3D-4E06-A4F0-E269094A4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F5E68-3E39-4F65-B296-4CF06438F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9E67AD-35CA-42BD-8D6C-D2955679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C85822-CDD8-4AA4-BF3A-45E26D7B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DA05-A12F-48D7-9057-8014EB0FA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BAC9F5-88F6-4D64-A7FB-C8AEC721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081E27-A3D3-44DF-A3B7-86B02879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F2AF22-499D-4000-9D64-954F624A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C34ED3-2B40-4943-9E23-FD40C60C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909C5E-7417-4FC1-BA6C-1EE4E9C4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26D2D8-BE17-439F-BD53-2FCAE03E9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DEC43E-03E6-4602-854B-E9E1CAB9A1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3A96C9-F4B0-4632-9905-C2559EB45C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3A924F-7C3F-43B9-BB0E-6A27F86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5A19171-3D9E-42E0-83CB-BE37099D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5CE8D-FBC4-4C9C-AA93-5349DC36971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C00F-7A8F-4A38-A9A6-30A5316B4F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C306-F9DF-4246-9AA2-44F727D8B3C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CB2B7-F055-4242-A585-92053FBECD4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B39A-0C74-4A87-9241-B273BD794C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B258-C22A-4679-B465-26C6D91EDAA7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5C9E-87C7-40B8-8148-BAC5CD5FDCDD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FE8A-648D-48CF-B25A-58AFB379F8A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FDD4-80FA-4AC8-9021-3B0FB14290F1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9D8D1-EFC8-4A29-A552-14C9317D903A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57B2-95EE-4729-B851-7B27363A8F90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FE0B-3BF3-458F-8641-71425ED7088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67ED7-F53F-4E4C-9D3C-F25261E6428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E55E-A2CC-4A4E-A3E4-012CB3F33929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781CB-05FD-465D-8D24-2B9C2487B994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5BA5-DC97-4DDB-AEF7-B51145FBC1BC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CDDD-7BF3-4823-B647-BDC1D623BE06}" type="slidenum"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1737-7F71-486A-96B0-F4170773D13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FCB7-BDDA-47C5-8802-1826B024CB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D0A2-BFEB-4118-8D12-2F462DD1F87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25A1-E513-4524-9D08-6FF965CE88C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2D45-2614-42AA-99D9-C5BF76B41E2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F900-783D-48F1-84F0-82043F18DD7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A686-B320-44A8-AEBD-5C66761E13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jpe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二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590920" y="2795760"/>
            <a:ext cx="558720" cy="4633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281160" y="2655720"/>
            <a:ext cx="84438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 连 加、连 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306160" y="2400480"/>
            <a:ext cx="6490080" cy="56880"/>
            <a:chOff x="2306160" y="2400480"/>
            <a:chExt cx="6490080" cy="56880"/>
          </a:xfrm>
        </p:grpSpPr>
        <p:sp>
          <p:nvSpPr>
            <p:cNvPr id="990" name="Line 10"/>
            <p:cNvSpPr/>
            <p:nvPr/>
          </p:nvSpPr>
          <p:spPr>
            <a:xfrm flipV="1">
              <a:off x="2306520" y="2400480"/>
              <a:ext cx="6489720" cy="5688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10800000">
              <a:off x="2306160" y="2400120"/>
              <a:ext cx="6489720" cy="56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236520" y="1816200"/>
            <a:ext cx="91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内的加法和减法（二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、水果店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苹果，第一天卖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，第二天卖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箱，还剩多少箱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文本框 1"/>
          <p:cNvSpPr/>
          <p:nvPr/>
        </p:nvSpPr>
        <p:spPr>
          <a:xfrm>
            <a:off x="2673360" y="3222720"/>
            <a:ext cx="43117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0-22-25=3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箱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还剩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3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2925720" cy="525600"/>
            <a:chOff x="0" y="101520"/>
            <a:chExt cx="2925720" cy="525600"/>
          </a:xfrm>
        </p:grpSpPr>
        <p:pic>
          <p:nvPicPr>
            <p:cNvPr id="999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32840" y="101520"/>
              <a:ext cx="279288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6560"/>
              <a:ext cx="386640" cy="273960"/>
              <a:chOff x="0" y="196560"/>
              <a:chExt cx="386640" cy="27396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32920" y="363960"/>
                <a:ext cx="97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160" y="335160"/>
                <a:ext cx="204480" cy="12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32920" y="239400"/>
                <a:ext cx="97200" cy="11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2160" y="212400"/>
                <a:ext cx="204480" cy="12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280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84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16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15000" cy="108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一、复习导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"/>
          <p:cNvSpPr/>
          <p:nvPr/>
        </p:nvSpPr>
        <p:spPr>
          <a:xfrm>
            <a:off x="392040" y="1052640"/>
            <a:ext cx="6131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算我最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3"/>
          <p:cNvSpPr/>
          <p:nvPr/>
        </p:nvSpPr>
        <p:spPr>
          <a:xfrm>
            <a:off x="2041560" y="1735200"/>
            <a:ext cx="2273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4"/>
          <p:cNvSpPr/>
          <p:nvPr/>
        </p:nvSpPr>
        <p:spPr>
          <a:xfrm>
            <a:off x="5537160" y="1752480"/>
            <a:ext cx="24908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8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2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1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5"/>
          <p:cNvSpPr/>
          <p:nvPr/>
        </p:nvSpPr>
        <p:spPr>
          <a:xfrm>
            <a:off x="1620720" y="2568600"/>
            <a:ext cx="26971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4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7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6"/>
          <p:cNvSpPr/>
          <p:nvPr/>
        </p:nvSpPr>
        <p:spPr>
          <a:xfrm>
            <a:off x="5330880" y="2576520"/>
            <a:ext cx="2808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0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30 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10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"/>
          <p:cNvGrpSpPr/>
          <p:nvPr/>
        </p:nvGrpSpPr>
        <p:grpSpPr>
          <a:xfrm>
            <a:off x="2106720" y="2286000"/>
            <a:ext cx="838080" cy="360"/>
            <a:chOff x="2106720" y="2286000"/>
            <a:chExt cx="838080" cy="360"/>
          </a:xfrm>
        </p:grpSpPr>
        <p:sp>
          <p:nvSpPr>
            <p:cNvPr id="1016" name="Line 7"/>
            <p:cNvSpPr/>
            <p:nvPr/>
          </p:nvSpPr>
          <p:spPr>
            <a:xfrm>
              <a:off x="2106720" y="2286000"/>
              <a:ext cx="838080" cy="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 txBox="1"/>
            <p:nvPr/>
          </p:nvSpPr>
          <p:spPr>
            <a:xfrm>
              <a:off x="2106720" y="228600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8" name="Text Box 8"/>
          <p:cNvSpPr/>
          <p:nvPr/>
        </p:nvSpPr>
        <p:spPr>
          <a:xfrm>
            <a:off x="2309760" y="22525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3824280" y="173988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2"/>
          <p:cNvSpPr/>
          <p:nvPr/>
        </p:nvSpPr>
        <p:spPr>
          <a:xfrm>
            <a:off x="7607520" y="174312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 Box 15"/>
          <p:cNvSpPr/>
          <p:nvPr/>
        </p:nvSpPr>
        <p:spPr>
          <a:xfrm>
            <a:off x="3816000" y="2567160"/>
            <a:ext cx="3924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 Box 18"/>
          <p:cNvSpPr/>
          <p:nvPr/>
        </p:nvSpPr>
        <p:spPr>
          <a:xfrm>
            <a:off x="7821720" y="2568600"/>
            <a:ext cx="6044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6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5641920" y="2284560"/>
            <a:ext cx="858960" cy="1440"/>
            <a:chOff x="5641920" y="2284560"/>
            <a:chExt cx="858960" cy="1440"/>
          </a:xfrm>
        </p:grpSpPr>
        <p:sp>
          <p:nvSpPr>
            <p:cNvPr id="1024" name="Line 7"/>
            <p:cNvSpPr/>
            <p:nvPr/>
          </p:nvSpPr>
          <p:spPr>
            <a:xfrm flipV="1">
              <a:off x="5641920" y="2284560"/>
              <a:ext cx="858960" cy="14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 txBox="1"/>
            <p:nvPr/>
          </p:nvSpPr>
          <p:spPr>
            <a:xfrm rot="10800000">
              <a:off x="5641920" y="2284560"/>
              <a:ext cx="8589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8"/>
          <p:cNvSpPr/>
          <p:nvPr/>
        </p:nvSpPr>
        <p:spPr>
          <a:xfrm>
            <a:off x="5957640" y="225252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7" name=""/>
          <p:cNvGrpSpPr/>
          <p:nvPr/>
        </p:nvGrpSpPr>
        <p:grpSpPr>
          <a:xfrm>
            <a:off x="1700280" y="3125880"/>
            <a:ext cx="1228680" cy="15840"/>
            <a:chOff x="1700280" y="3125880"/>
            <a:chExt cx="1228680" cy="15840"/>
          </a:xfrm>
        </p:grpSpPr>
        <p:sp>
          <p:nvSpPr>
            <p:cNvPr id="1028" name="Line 7"/>
            <p:cNvSpPr/>
            <p:nvPr/>
          </p:nvSpPr>
          <p:spPr>
            <a:xfrm>
              <a:off x="1700280" y="3125880"/>
              <a:ext cx="1228680" cy="15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 txBox="1"/>
            <p:nvPr/>
          </p:nvSpPr>
          <p:spPr>
            <a:xfrm>
              <a:off x="1700280" y="3125880"/>
              <a:ext cx="122868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Text Box 8"/>
          <p:cNvSpPr/>
          <p:nvPr/>
        </p:nvSpPr>
        <p:spPr>
          <a:xfrm>
            <a:off x="1985760" y="30924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"/>
          <p:cNvGrpSpPr/>
          <p:nvPr/>
        </p:nvGrpSpPr>
        <p:grpSpPr>
          <a:xfrm>
            <a:off x="5457960" y="3125880"/>
            <a:ext cx="1185840" cy="15840"/>
            <a:chOff x="5457960" y="3125880"/>
            <a:chExt cx="1185840" cy="15840"/>
          </a:xfrm>
        </p:grpSpPr>
        <p:sp>
          <p:nvSpPr>
            <p:cNvPr id="1032" name="Line 7"/>
            <p:cNvSpPr/>
            <p:nvPr/>
          </p:nvSpPr>
          <p:spPr>
            <a:xfrm>
              <a:off x="5457960" y="3125880"/>
              <a:ext cx="1185840" cy="15840"/>
            </a:xfrm>
            <a:prstGeom prst="line">
              <a:avLst/>
            </a:prstGeom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 txBox="1"/>
            <p:nvPr/>
          </p:nvSpPr>
          <p:spPr>
            <a:xfrm>
              <a:off x="5457960" y="3125880"/>
              <a:ext cx="1185840" cy="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30960" bIns="-309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Text Box 8"/>
          <p:cNvSpPr/>
          <p:nvPr/>
        </p:nvSpPr>
        <p:spPr>
          <a:xfrm>
            <a:off x="5743440" y="3092400"/>
            <a:ext cx="406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  <a:ea typeface="楷体_GB2312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Rectangle 179"/>
          <p:cNvSpPr/>
          <p:nvPr/>
        </p:nvSpPr>
        <p:spPr>
          <a:xfrm>
            <a:off x="18720" y="47941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2"/>
          <p:cNvSpPr/>
          <p:nvPr/>
        </p:nvSpPr>
        <p:spPr>
          <a:xfrm>
            <a:off x="392040" y="3927600"/>
            <a:ext cx="7286760" cy="13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天我们将集中研究三个数的加减法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加、连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7" name="组合 2"/>
          <p:cNvGrpSpPr/>
          <p:nvPr/>
        </p:nvGrpSpPr>
        <p:grpSpPr>
          <a:xfrm>
            <a:off x="15840" y="101520"/>
            <a:ext cx="2835360" cy="525600"/>
            <a:chOff x="15840" y="101520"/>
            <a:chExt cx="2835360" cy="525600"/>
          </a:xfrm>
        </p:grpSpPr>
        <p:pic>
          <p:nvPicPr>
            <p:cNvPr id="1038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43640" y="101520"/>
              <a:ext cx="270756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9" name="组合 4"/>
            <p:cNvGrpSpPr/>
            <p:nvPr/>
          </p:nvGrpSpPr>
          <p:grpSpPr>
            <a:xfrm>
              <a:off x="15840" y="196560"/>
              <a:ext cx="374400" cy="273960"/>
              <a:chOff x="15840" y="196560"/>
              <a:chExt cx="374400" cy="273960"/>
            </a:xfrm>
          </p:grpSpPr>
          <p:sp>
            <p:nvSpPr>
              <p:cNvPr id="1040" name="椭圆 1"/>
              <p:cNvSpPr/>
              <p:nvPr/>
            </p:nvSpPr>
            <p:spPr>
              <a:xfrm rot="16200000">
                <a:off x="246600" y="36504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1" name="椭圆 2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920" y="338760"/>
                <a:ext cx="202320" cy="12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2" name="椭圆 29"/>
              <p:cNvSpPr/>
              <p:nvPr/>
            </p:nvSpPr>
            <p:spPr>
              <a:xfrm rot="16200000">
                <a:off x="246600" y="241200"/>
                <a:ext cx="96480" cy="114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3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187920" y="212760"/>
                <a:ext cx="202320" cy="12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15840" y="35676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15840" y="32508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15840" y="22788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15840" y="196560"/>
                <a:ext cx="303120" cy="111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-1296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宋体"/>
              </a:rPr>
              <a:t>二、探究新知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17"/>
          <p:cNvSpPr/>
          <p:nvPr/>
        </p:nvSpPr>
        <p:spPr>
          <a:xfrm>
            <a:off x="2459160" y="3867120"/>
            <a:ext cx="182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18"/>
          <p:cNvSpPr/>
          <p:nvPr/>
        </p:nvSpPr>
        <p:spPr>
          <a:xfrm>
            <a:off x="3667320" y="3425760"/>
            <a:ext cx="80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第一组、第二组一共摘的南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19"/>
          <p:cNvSpPr/>
          <p:nvPr/>
        </p:nvSpPr>
        <p:spPr>
          <a:xfrm>
            <a:off x="2506680" y="4329000"/>
            <a:ext cx="185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加上第三组摘的南瓜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20"/>
          <p:cNvSpPr/>
          <p:nvPr/>
        </p:nvSpPr>
        <p:spPr>
          <a:xfrm>
            <a:off x="2460600" y="4748040"/>
            <a:ext cx="175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6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21"/>
          <p:cNvSpPr/>
          <p:nvPr/>
        </p:nvSpPr>
        <p:spPr>
          <a:xfrm>
            <a:off x="3672720" y="386856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6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Box 22"/>
          <p:cNvSpPr/>
          <p:nvPr/>
        </p:nvSpPr>
        <p:spPr>
          <a:xfrm>
            <a:off x="3671280" y="4746600"/>
            <a:ext cx="98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8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TextBox 23"/>
          <p:cNvSpPr/>
          <p:nvPr/>
        </p:nvSpPr>
        <p:spPr>
          <a:xfrm>
            <a:off x="3077280" y="519264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答：一共摘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南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0"/>
          <p:cNvSpPr/>
          <p:nvPr/>
        </p:nvSpPr>
        <p:spPr>
          <a:xfrm>
            <a:off x="5380200" y="4238640"/>
            <a:ext cx="3024000" cy="6418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AutoShape 29"/>
          <p:cNvSpPr/>
          <p:nvPr/>
        </p:nvSpPr>
        <p:spPr>
          <a:xfrm>
            <a:off x="5634000" y="1560600"/>
            <a:ext cx="1909800" cy="496440"/>
          </a:xfrm>
          <a:prstGeom prst="wedgeRoundRectCallout">
            <a:avLst>
              <a:gd name="adj1" fmla="val 59796"/>
              <a:gd name="adj2" fmla="val 34782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竖式怎么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AutoShape 28"/>
          <p:cNvSpPr/>
          <p:nvPr/>
        </p:nvSpPr>
        <p:spPr>
          <a:xfrm>
            <a:off x="5796000" y="2422440"/>
            <a:ext cx="1730160" cy="891000"/>
          </a:xfrm>
          <a:prstGeom prst="wedgeRoundRectCallout">
            <a:avLst>
              <a:gd name="adj1" fmla="val 62273"/>
              <a:gd name="adj2" fmla="val -2425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能列出综</a:t>
            </a:r>
            <a:br>
              <a:rPr sz="2000"/>
            </a:b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合算式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36"/>
          <p:cNvSpPr/>
          <p:nvPr/>
        </p:nvSpPr>
        <p:spPr>
          <a:xfrm>
            <a:off x="18720" y="425124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0" name="图片 24" descr="2.tif"/>
          <p:cNvPicPr/>
          <p:nvPr/>
        </p:nvPicPr>
        <p:blipFill>
          <a:blip r:embed="rId8"/>
          <a:stretch/>
        </p:blipFill>
        <p:spPr>
          <a:xfrm>
            <a:off x="7715160" y="149688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22" descr="1.jpg"/>
          <p:cNvPicPr/>
          <p:nvPr/>
        </p:nvPicPr>
        <p:blipFill>
          <a:blip r:embed="rId9"/>
          <a:stretch/>
        </p:blipFill>
        <p:spPr>
          <a:xfrm>
            <a:off x="285840" y="3813120"/>
            <a:ext cx="1305000" cy="1711440"/>
          </a:xfrm>
          <a:prstGeom prst="rect">
            <a:avLst/>
          </a:prstGeom>
          <a:ln w="0">
            <a:noFill/>
          </a:ln>
        </p:spPr>
      </p:pic>
      <p:sp>
        <p:nvSpPr>
          <p:cNvPr id="1062" name="八边形 7"/>
          <p:cNvSpPr/>
          <p:nvPr/>
        </p:nvSpPr>
        <p:spPr>
          <a:xfrm>
            <a:off x="314280" y="77940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3" name=""/>
          <p:cNvGraphicFramePr/>
          <p:nvPr/>
        </p:nvGraphicFramePr>
        <p:xfrm>
          <a:off x="949320" y="1365120"/>
          <a:ext cx="3983040" cy="1206360"/>
        </p:xfrm>
        <a:graphic>
          <a:graphicData uri="http://schemas.openxmlformats.org/drawingml/2006/table">
            <a:tbl>
              <a:tblPr/>
              <a:tblGrid>
                <a:gridCol w="1327320"/>
                <a:gridCol w="1326960"/>
                <a:gridCol w="132876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一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二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三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4" name="文本框 6"/>
          <p:cNvSpPr/>
          <p:nvPr/>
        </p:nvSpPr>
        <p:spPr>
          <a:xfrm>
            <a:off x="880920" y="2381400"/>
            <a:ext cx="433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共摘了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AutoShape 58"/>
          <p:cNvSpPr/>
          <p:nvPr/>
        </p:nvSpPr>
        <p:spPr>
          <a:xfrm>
            <a:off x="5594400" y="857160"/>
            <a:ext cx="1950840" cy="891000"/>
          </a:xfrm>
          <a:prstGeom prst="wedgeRoundRectCallout">
            <a:avLst>
              <a:gd name="adj1" fmla="val 57231"/>
              <a:gd name="adj2" fmla="val 23787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哪种写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合你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AutoShape 8"/>
          <p:cNvSpPr/>
          <p:nvPr/>
        </p:nvSpPr>
        <p:spPr>
          <a:xfrm>
            <a:off x="658800" y="1649520"/>
            <a:ext cx="3394080" cy="152856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AutoShape 8"/>
          <p:cNvSpPr/>
          <p:nvPr/>
        </p:nvSpPr>
        <p:spPr>
          <a:xfrm>
            <a:off x="684360" y="3395520"/>
            <a:ext cx="1574640" cy="2214720"/>
          </a:xfrm>
          <a:custGeom>
            <a:avLst/>
            <a:gdLst>
              <a:gd name="textAreaLeft" fmla="*/ 45360 w 1574640"/>
              <a:gd name="textAreaRight" fmla="*/ 1529280 w 1574640"/>
              <a:gd name="textAreaTop" fmla="*/ 45360 h 2214720"/>
              <a:gd name="textAreaBottom" fmla="*/ 2169360 h 2214720"/>
            </a:gdLst>
            <a:ahLst/>
            <a:rect l="textAreaLeft" t="textAreaTop" r="textAreaRight" b="textAreaBottom"/>
            <a:pathLst>
              <a:path w="21600" h="30378">
                <a:moveTo>
                  <a:pt x="2137" y="0"/>
                </a:moveTo>
                <a:arcTo wR="2137" hR="2137" stAng="16200000" swAng="-5400000"/>
                <a:lnTo>
                  <a:pt x="0" y="28241"/>
                </a:lnTo>
                <a:arcTo wR="2137" hR="2137" stAng="10800000" swAng="-5400000"/>
                <a:lnTo>
                  <a:pt x="19463" y="30378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AutoShape 8"/>
          <p:cNvSpPr/>
          <p:nvPr/>
        </p:nvSpPr>
        <p:spPr>
          <a:xfrm>
            <a:off x="5867280" y="3378240"/>
            <a:ext cx="1928880" cy="2214360"/>
          </a:xfrm>
          <a:custGeom>
            <a:avLst/>
            <a:gdLst>
              <a:gd name="textAreaLeft" fmla="*/ 55800 w 1928880"/>
              <a:gd name="textAreaRight" fmla="*/ 1873080 w 1928880"/>
              <a:gd name="textAreaTop" fmla="*/ 55800 h 2214360"/>
              <a:gd name="textAreaBottom" fmla="*/ 2158560 h 2214360"/>
            </a:gdLst>
            <a:ahLst/>
            <a:rect l="textAreaLeft" t="textAreaTop" r="textAreaRight" b="textAreaBottom"/>
            <a:pathLst>
              <a:path w="21600" h="24796">
                <a:moveTo>
                  <a:pt x="2137" y="0"/>
                </a:moveTo>
                <a:arcTo wR="2137" hR="2137" stAng="16200000" swAng="-5400000"/>
                <a:lnTo>
                  <a:pt x="0" y="22659"/>
                </a:lnTo>
                <a:arcTo wR="2137" hR="2137" stAng="10800000" swAng="-5400000"/>
                <a:lnTo>
                  <a:pt x="19463" y="24796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10"/>
          <p:cNvSpPr/>
          <p:nvPr/>
        </p:nvSpPr>
        <p:spPr>
          <a:xfrm>
            <a:off x="560520" y="871560"/>
            <a:ext cx="278604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34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22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1"/>
          <p:cNvSpPr/>
          <p:nvPr/>
        </p:nvSpPr>
        <p:spPr>
          <a:xfrm>
            <a:off x="5662440" y="28018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可以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Text Box 32"/>
          <p:cNvSpPr/>
          <p:nvPr/>
        </p:nvSpPr>
        <p:spPr>
          <a:xfrm>
            <a:off x="1233360" y="163656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870120" y="19969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3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880920" y="2565360"/>
            <a:ext cx="1176480" cy="360"/>
            <a:chOff x="880920" y="2565360"/>
            <a:chExt cx="1176480" cy="360"/>
          </a:xfrm>
        </p:grpSpPr>
        <p:sp>
          <p:nvSpPr>
            <p:cNvPr id="1074" name="Line 34"/>
            <p:cNvSpPr/>
            <p:nvPr/>
          </p:nvSpPr>
          <p:spPr>
            <a:xfrm>
              <a:off x="880920" y="256536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 txBox="1"/>
            <p:nvPr/>
          </p:nvSpPr>
          <p:spPr>
            <a:xfrm>
              <a:off x="880920" y="256536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Text Box 35"/>
          <p:cNvSpPr/>
          <p:nvPr/>
        </p:nvSpPr>
        <p:spPr>
          <a:xfrm>
            <a:off x="1230480" y="252252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36"/>
          <p:cNvSpPr/>
          <p:nvPr/>
        </p:nvSpPr>
        <p:spPr>
          <a:xfrm>
            <a:off x="1590840" y="25210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37"/>
          <p:cNvSpPr/>
          <p:nvPr/>
        </p:nvSpPr>
        <p:spPr>
          <a:xfrm>
            <a:off x="1353960" y="225576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43"/>
          <p:cNvSpPr/>
          <p:nvPr/>
        </p:nvSpPr>
        <p:spPr>
          <a:xfrm>
            <a:off x="2951280" y="163656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Text Box 44"/>
          <p:cNvSpPr/>
          <p:nvPr/>
        </p:nvSpPr>
        <p:spPr>
          <a:xfrm>
            <a:off x="2590920" y="199872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612880" y="2557440"/>
            <a:ext cx="1176480" cy="360"/>
            <a:chOff x="2612880" y="2557440"/>
            <a:chExt cx="1176480" cy="360"/>
          </a:xfrm>
        </p:grpSpPr>
        <p:sp>
          <p:nvSpPr>
            <p:cNvPr id="1082" name="Line 45"/>
            <p:cNvSpPr/>
            <p:nvPr/>
          </p:nvSpPr>
          <p:spPr>
            <a:xfrm>
              <a:off x="2612880" y="2557440"/>
              <a:ext cx="11764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2612880" y="2557440"/>
              <a:ext cx="1176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4" name="Text Box 46"/>
          <p:cNvSpPr/>
          <p:nvPr/>
        </p:nvSpPr>
        <p:spPr>
          <a:xfrm>
            <a:off x="2948040" y="2527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 Box 47"/>
          <p:cNvSpPr/>
          <p:nvPr/>
        </p:nvSpPr>
        <p:spPr>
          <a:xfrm>
            <a:off x="3327480" y="2527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49"/>
          <p:cNvSpPr/>
          <p:nvPr/>
        </p:nvSpPr>
        <p:spPr>
          <a:xfrm>
            <a:off x="1222200" y="2654280"/>
            <a:ext cx="75600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50"/>
          <p:cNvSpPr/>
          <p:nvPr/>
        </p:nvSpPr>
        <p:spPr>
          <a:xfrm>
            <a:off x="2960640" y="1766880"/>
            <a:ext cx="755640" cy="360360"/>
          </a:xfrm>
          <a:prstGeom prst="rect">
            <a:avLst/>
          </a:prstGeom>
          <a:noFill/>
          <a:ln w="19080">
            <a:solidFill>
              <a:srgbClr val="ff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 Box 72"/>
          <p:cNvSpPr/>
          <p:nvPr/>
        </p:nvSpPr>
        <p:spPr>
          <a:xfrm>
            <a:off x="1235160" y="3384720"/>
            <a:ext cx="1150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 Box 73"/>
          <p:cNvSpPr/>
          <p:nvPr/>
        </p:nvSpPr>
        <p:spPr>
          <a:xfrm>
            <a:off x="865080" y="375444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3  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"/>
          <p:cNvGrpSpPr/>
          <p:nvPr/>
        </p:nvGrpSpPr>
        <p:grpSpPr>
          <a:xfrm>
            <a:off x="882720" y="4314960"/>
            <a:ext cx="1168200" cy="360"/>
            <a:chOff x="882720" y="4314960"/>
            <a:chExt cx="1168200" cy="360"/>
          </a:xfrm>
        </p:grpSpPr>
        <p:sp>
          <p:nvSpPr>
            <p:cNvPr id="1091" name="Line 74"/>
            <p:cNvSpPr/>
            <p:nvPr/>
          </p:nvSpPr>
          <p:spPr>
            <a:xfrm>
              <a:off x="882720" y="4314960"/>
              <a:ext cx="116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882720" y="4314960"/>
              <a:ext cx="1168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3" name="Text Box 75"/>
          <p:cNvSpPr/>
          <p:nvPr/>
        </p:nvSpPr>
        <p:spPr>
          <a:xfrm>
            <a:off x="122544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Text Box 76"/>
          <p:cNvSpPr/>
          <p:nvPr/>
        </p:nvSpPr>
        <p:spPr>
          <a:xfrm>
            <a:off x="159228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77"/>
          <p:cNvSpPr/>
          <p:nvPr/>
        </p:nvSpPr>
        <p:spPr>
          <a:xfrm>
            <a:off x="1344600" y="4025880"/>
            <a:ext cx="374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Text Box 79"/>
          <p:cNvSpPr/>
          <p:nvPr/>
        </p:nvSpPr>
        <p:spPr>
          <a:xfrm>
            <a:off x="863640" y="4578480"/>
            <a:ext cx="16621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7" name=""/>
          <p:cNvGrpSpPr/>
          <p:nvPr/>
        </p:nvGrpSpPr>
        <p:grpSpPr>
          <a:xfrm>
            <a:off x="843120" y="5121360"/>
            <a:ext cx="1187280" cy="360"/>
            <a:chOff x="843120" y="5121360"/>
            <a:chExt cx="1187280" cy="360"/>
          </a:xfrm>
        </p:grpSpPr>
        <p:sp>
          <p:nvSpPr>
            <p:cNvPr id="1098" name="Line 80"/>
            <p:cNvSpPr/>
            <p:nvPr/>
          </p:nvSpPr>
          <p:spPr>
            <a:xfrm>
              <a:off x="843120" y="5121360"/>
              <a:ext cx="1187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 txBox="1"/>
            <p:nvPr/>
          </p:nvSpPr>
          <p:spPr>
            <a:xfrm>
              <a:off x="843120" y="5121360"/>
              <a:ext cx="11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0" name="Text Box 81"/>
          <p:cNvSpPr/>
          <p:nvPr/>
        </p:nvSpPr>
        <p:spPr>
          <a:xfrm>
            <a:off x="1227240" y="502920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ext Box 82"/>
          <p:cNvSpPr/>
          <p:nvPr/>
        </p:nvSpPr>
        <p:spPr>
          <a:xfrm>
            <a:off x="1592280" y="503568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83"/>
          <p:cNvSpPr/>
          <p:nvPr/>
        </p:nvSpPr>
        <p:spPr>
          <a:xfrm>
            <a:off x="2987640" y="871560"/>
            <a:ext cx="936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  <a:ea typeface="楷体_GB2312"/>
              </a:rPr>
              <a:t>8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75"/>
          <p:cNvSpPr/>
          <p:nvPr/>
        </p:nvSpPr>
        <p:spPr>
          <a:xfrm>
            <a:off x="119232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6"/>
          <p:cNvSpPr/>
          <p:nvPr/>
        </p:nvSpPr>
        <p:spPr>
          <a:xfrm>
            <a:off x="1560600" y="4205160"/>
            <a:ext cx="4302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楷体_GB2312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31"/>
          <p:cNvSpPr/>
          <p:nvPr/>
        </p:nvSpPr>
        <p:spPr>
          <a:xfrm>
            <a:off x="6518160" y="4599000"/>
            <a:ext cx="53676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新魏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 Box 32"/>
          <p:cNvSpPr/>
          <p:nvPr/>
        </p:nvSpPr>
        <p:spPr>
          <a:xfrm>
            <a:off x="6440400" y="3497400"/>
            <a:ext cx="13906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8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 Box 33"/>
          <p:cNvSpPr/>
          <p:nvPr/>
        </p:nvSpPr>
        <p:spPr>
          <a:xfrm>
            <a:off x="6443640" y="3924360"/>
            <a:ext cx="1513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3  4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6012000" y="4346640"/>
            <a:ext cx="16603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2 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6046920" y="4937040"/>
            <a:ext cx="1280880" cy="360"/>
            <a:chOff x="6046920" y="4937040"/>
            <a:chExt cx="1280880" cy="360"/>
          </a:xfrm>
        </p:grpSpPr>
        <p:sp>
          <p:nvSpPr>
            <p:cNvPr id="1110" name="Line 35"/>
            <p:cNvSpPr/>
            <p:nvPr/>
          </p:nvSpPr>
          <p:spPr>
            <a:xfrm>
              <a:off x="6046920" y="4937040"/>
              <a:ext cx="12808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 txBox="1"/>
            <p:nvPr/>
          </p:nvSpPr>
          <p:spPr>
            <a:xfrm>
              <a:off x="6046920" y="4937040"/>
              <a:ext cx="128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38"/>
          <p:cNvSpPr/>
          <p:nvPr/>
        </p:nvSpPr>
        <p:spPr>
          <a:xfrm>
            <a:off x="6435720" y="4897440"/>
            <a:ext cx="7192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8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39"/>
          <p:cNvSpPr/>
          <p:nvPr/>
        </p:nvSpPr>
        <p:spPr>
          <a:xfrm>
            <a:off x="6813720" y="4894200"/>
            <a:ext cx="7999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华文新魏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直接连接符 87"/>
          <p:cNvSpPr/>
          <p:nvPr/>
        </p:nvSpPr>
        <p:spPr>
          <a:xfrm>
            <a:off x="7120080" y="3830760"/>
            <a:ext cx="217440" cy="414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接连接符 89"/>
          <p:cNvSpPr/>
          <p:nvPr/>
        </p:nvSpPr>
        <p:spPr>
          <a:xfrm flipV="1">
            <a:off x="7103520" y="4249800"/>
            <a:ext cx="230040" cy="404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11"/>
          <p:cNvSpPr/>
          <p:nvPr/>
        </p:nvSpPr>
        <p:spPr>
          <a:xfrm>
            <a:off x="7326360" y="4025880"/>
            <a:ext cx="5000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"/>
                <a:ea typeface="华文楷体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59"/>
          <p:cNvSpPr/>
          <p:nvPr/>
        </p:nvSpPr>
        <p:spPr>
          <a:xfrm>
            <a:off x="5288040" y="858960"/>
            <a:ext cx="2259000" cy="891000"/>
          </a:xfrm>
          <a:prstGeom prst="wedgeRoundRectCallout">
            <a:avLst>
              <a:gd name="adj1" fmla="val 56879"/>
              <a:gd name="adj2" fmla="val 2519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不能把它们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一起写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62"/>
          <p:cNvSpPr/>
          <p:nvPr/>
        </p:nvSpPr>
        <p:spPr>
          <a:xfrm>
            <a:off x="2698920" y="3867120"/>
            <a:ext cx="1223640" cy="891000"/>
          </a:xfrm>
          <a:prstGeom prst="wedgeRoundRectCallout">
            <a:avLst>
              <a:gd name="adj1" fmla="val 65819"/>
              <a:gd name="adj2" fmla="val 28953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样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9" name="图片 54" descr="2.tif"/>
          <p:cNvPicPr/>
          <p:nvPr/>
        </p:nvPicPr>
        <p:blipFill>
          <a:blip r:embed="rId1"/>
          <a:stretch/>
        </p:blipFill>
        <p:spPr>
          <a:xfrm>
            <a:off x="7715160" y="1085760"/>
            <a:ext cx="1235160" cy="1785960"/>
          </a:xfrm>
          <a:prstGeom prst="rect">
            <a:avLst/>
          </a:prstGeom>
          <a:ln w="0">
            <a:noFill/>
          </a:ln>
        </p:spPr>
      </p:pic>
      <p:pic>
        <p:nvPicPr>
          <p:cNvPr id="1120" name="图片 22" descr="1.jpg"/>
          <p:cNvPicPr/>
          <p:nvPr/>
        </p:nvPicPr>
        <p:blipFill>
          <a:blip r:embed="rId2"/>
          <a:stretch/>
        </p:blipFill>
        <p:spPr>
          <a:xfrm>
            <a:off x="4286160" y="1943280"/>
            <a:ext cx="1305000" cy="1711080"/>
          </a:xfrm>
          <a:prstGeom prst="rect">
            <a:avLst/>
          </a:prstGeom>
          <a:ln w="0">
            <a:noFill/>
          </a:ln>
        </p:spPr>
      </p:pic>
      <p:pic>
        <p:nvPicPr>
          <p:cNvPr id="1121" name="图片 56" descr="3.tif"/>
          <p:cNvPicPr/>
          <p:nvPr/>
        </p:nvPicPr>
        <p:blipFill>
          <a:blip r:embed="rId3"/>
          <a:stretch/>
        </p:blipFill>
        <p:spPr>
          <a:xfrm>
            <a:off x="4214880" y="3943440"/>
            <a:ext cx="1198440" cy="12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"/>
                            </p:stCondLst>
                            <p:childTnLst>
                              <p:par>
                                <p:cTn id="11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"/>
                            </p:stCondLst>
                            <p:childTnLst>
                              <p:par>
                                <p:cTn id="11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"/>
                            </p:stCondLst>
                            <p:childTnLst>
                              <p:par>
                                <p:cTn id="11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"/>
                            </p:stCondLst>
                            <p:childTnLst>
                              <p:par>
                                <p:cTn id="1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"/>
                            </p:stCondLst>
                            <p:childTnLst>
                              <p:par>
                                <p:cTn id="1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"/>
                            </p:stCondLst>
                            <p:childTnLst>
                              <p:par>
                                <p:cTn id="16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"/>
                            </p:stCondLst>
                            <p:childTnLst>
                              <p:par>
                                <p:cTn id="1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"/>
                            </p:stCondLst>
                            <p:childTnLst>
                              <p:par>
                                <p:cTn id="16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"/>
                            </p:stCondLst>
                            <p:childTnLst>
                              <p:par>
                                <p:cTn id="1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"/>
                            </p:stCondLst>
                            <p:childTnLst>
                              <p:par>
                                <p:cTn id="17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3"/>
                            </p:stCondLst>
                            <p:childTnLst>
                              <p:par>
                                <p:cTn id="17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"/>
                            </p:stCondLst>
                            <p:childTnLst>
                              <p:par>
                                <p:cTn id="182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4"/>
                            </p:stCondLst>
                            <p:childTnLst>
                              <p:par>
                                <p:cTn id="185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5"/>
                            </p:stCondLst>
                            <p:childTnLst>
                              <p:par>
                                <p:cTn id="18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"/>
                            </p:stCondLst>
                            <p:childTnLst>
                              <p:par>
                                <p:cTn id="19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"/>
                            </p:stCondLst>
                            <p:childTnLst>
                              <p:par>
                                <p:cTn id="198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2"/>
                            </p:stCondLst>
                            <p:childTnLst>
                              <p:par>
                                <p:cTn id="201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"/>
                            </p:stCondLst>
                            <p:childTnLst>
                              <p:par>
                                <p:cTn id="20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"/>
                            </p:stCondLst>
                            <p:childTnLst>
                              <p:par>
                                <p:cTn id="249" dur="indefinite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Text Box 35"/>
          <p:cNvSpPr/>
          <p:nvPr/>
        </p:nvSpPr>
        <p:spPr>
          <a:xfrm>
            <a:off x="4070520" y="3000240"/>
            <a:ext cx="642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"/>
          <p:cNvSpPr/>
          <p:nvPr/>
        </p:nvSpPr>
        <p:spPr>
          <a:xfrm>
            <a:off x="733320" y="78408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，王叔叔运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。还剩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83"/>
          <p:cNvSpPr/>
          <p:nvPr/>
        </p:nvSpPr>
        <p:spPr>
          <a:xfrm>
            <a:off x="3340080" y="1871640"/>
            <a:ext cx="2222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83"/>
          <p:cNvSpPr/>
          <p:nvPr/>
        </p:nvSpPr>
        <p:spPr>
          <a:xfrm>
            <a:off x="1386000" y="1871640"/>
            <a:ext cx="3857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AutoShape 8"/>
          <p:cNvSpPr/>
          <p:nvPr/>
        </p:nvSpPr>
        <p:spPr>
          <a:xfrm>
            <a:off x="826920" y="2603520"/>
            <a:ext cx="3167280" cy="1523880"/>
          </a:xfrm>
          <a:prstGeom prst="roundRect">
            <a:avLst>
              <a:gd name="adj" fmla="val 9894"/>
            </a:avLst>
          </a:pr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Text Box 35"/>
          <p:cNvSpPr/>
          <p:nvPr/>
        </p:nvSpPr>
        <p:spPr>
          <a:xfrm>
            <a:off x="1403280" y="35100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36"/>
          <p:cNvSpPr/>
          <p:nvPr/>
        </p:nvSpPr>
        <p:spPr>
          <a:xfrm>
            <a:off x="1751040" y="35100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43"/>
          <p:cNvSpPr/>
          <p:nvPr/>
        </p:nvSpPr>
        <p:spPr>
          <a:xfrm>
            <a:off x="2973240" y="268272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Text Box 46"/>
          <p:cNvSpPr/>
          <p:nvPr/>
        </p:nvSpPr>
        <p:spPr>
          <a:xfrm>
            <a:off x="2973240" y="35132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47"/>
          <p:cNvSpPr/>
          <p:nvPr/>
        </p:nvSpPr>
        <p:spPr>
          <a:xfrm>
            <a:off x="3300480" y="350676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8"/>
          <p:cNvSpPr/>
          <p:nvPr/>
        </p:nvSpPr>
        <p:spPr>
          <a:xfrm>
            <a:off x="4788000" y="2602080"/>
            <a:ext cx="1819080" cy="2214360"/>
          </a:xfrm>
          <a:custGeom>
            <a:avLst/>
            <a:gdLst>
              <a:gd name="textAreaLeft" fmla="*/ 52560 w 1819080"/>
              <a:gd name="textAreaRight" fmla="*/ 1766520 w 1819080"/>
              <a:gd name="textAreaTop" fmla="*/ 52560 h 2214360"/>
              <a:gd name="textAreaBottom" fmla="*/ 2161800 h 2214360"/>
            </a:gdLst>
            <a:ahLst/>
            <a:rect l="textAreaLeft" t="textAreaTop" r="textAreaRight" b="textAreaBottom"/>
            <a:pathLst>
              <a:path w="21600" h="26293">
                <a:moveTo>
                  <a:pt x="2137" y="0"/>
                </a:moveTo>
                <a:arcTo wR="2137" hR="2137" stAng="16200000" swAng="-5400000"/>
                <a:lnTo>
                  <a:pt x="0" y="24156"/>
                </a:lnTo>
                <a:arcTo wR="2137" hR="2137" stAng="10800000" swAng="-5400000"/>
                <a:lnTo>
                  <a:pt x="19463" y="26293"/>
                </a:lnTo>
                <a:arcTo wR="2137" hR="2137" stAng="5400000" swAng="-5400000"/>
                <a:lnTo>
                  <a:pt x="21600" y="2137"/>
                </a:lnTo>
                <a:arcTo wR="2137" hR="2137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72"/>
          <p:cNvSpPr/>
          <p:nvPr/>
        </p:nvSpPr>
        <p:spPr>
          <a:xfrm>
            <a:off x="5448240" y="2630520"/>
            <a:ext cx="1150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73"/>
          <p:cNvSpPr/>
          <p:nvPr/>
        </p:nvSpPr>
        <p:spPr>
          <a:xfrm>
            <a:off x="5132520" y="298944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4 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5157720" y="3495600"/>
            <a:ext cx="1025640" cy="360"/>
            <a:chOff x="5157720" y="3495600"/>
            <a:chExt cx="1025640" cy="360"/>
          </a:xfrm>
        </p:grpSpPr>
        <p:sp>
          <p:nvSpPr>
            <p:cNvPr id="1136" name="Line 74"/>
            <p:cNvSpPr/>
            <p:nvPr/>
          </p:nvSpPr>
          <p:spPr>
            <a:xfrm>
              <a:off x="5157720" y="3495600"/>
              <a:ext cx="10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5157720" y="3495600"/>
              <a:ext cx="1025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Text Box 75"/>
          <p:cNvSpPr/>
          <p:nvPr/>
        </p:nvSpPr>
        <p:spPr>
          <a:xfrm>
            <a:off x="5457960" y="34178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76"/>
          <p:cNvSpPr/>
          <p:nvPr/>
        </p:nvSpPr>
        <p:spPr>
          <a:xfrm>
            <a:off x="5791320" y="341784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79"/>
          <p:cNvSpPr/>
          <p:nvPr/>
        </p:nvSpPr>
        <p:spPr>
          <a:xfrm>
            <a:off x="4911840" y="3743280"/>
            <a:ext cx="1662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2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5156280" y="4267080"/>
            <a:ext cx="1025280" cy="360"/>
            <a:chOff x="5156280" y="4267080"/>
            <a:chExt cx="1025280" cy="360"/>
          </a:xfrm>
        </p:grpSpPr>
        <p:sp>
          <p:nvSpPr>
            <p:cNvPr id="1142" name="Line 80"/>
            <p:cNvSpPr/>
            <p:nvPr/>
          </p:nvSpPr>
          <p:spPr>
            <a:xfrm>
              <a:off x="5156280" y="4267080"/>
              <a:ext cx="1025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5156280" y="4267080"/>
              <a:ext cx="102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Text Box 81"/>
          <p:cNvSpPr/>
          <p:nvPr/>
        </p:nvSpPr>
        <p:spPr>
          <a:xfrm>
            <a:off x="5450040" y="42228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82"/>
          <p:cNvSpPr/>
          <p:nvPr/>
        </p:nvSpPr>
        <p:spPr>
          <a:xfrm>
            <a:off x="5791320" y="4222800"/>
            <a:ext cx="430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167"/>
          <p:cNvSpPr/>
          <p:nvPr/>
        </p:nvSpPr>
        <p:spPr>
          <a:xfrm>
            <a:off x="5788440" y="1828800"/>
            <a:ext cx="172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口答：还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Group 66"/>
          <p:cNvGrpSpPr/>
          <p:nvPr/>
        </p:nvGrpSpPr>
        <p:grpSpPr>
          <a:xfrm>
            <a:off x="1003320" y="2625840"/>
            <a:ext cx="3160800" cy="1328760"/>
            <a:chOff x="1003320" y="2625840"/>
            <a:chExt cx="3160800" cy="1328760"/>
          </a:xfrm>
        </p:grpSpPr>
        <p:grpSp>
          <p:nvGrpSpPr>
            <p:cNvPr id="1148" name="Group 64"/>
            <p:cNvGrpSpPr/>
            <p:nvPr/>
          </p:nvGrpSpPr>
          <p:grpSpPr>
            <a:xfrm>
              <a:off x="1003320" y="2625840"/>
              <a:ext cx="1662120" cy="1328760"/>
              <a:chOff x="1003320" y="2625840"/>
              <a:chExt cx="1662120" cy="1328760"/>
            </a:xfrm>
          </p:grpSpPr>
          <p:sp>
            <p:nvSpPr>
              <p:cNvPr id="1149" name="Text Box 32"/>
              <p:cNvSpPr/>
              <p:nvPr/>
            </p:nvSpPr>
            <p:spPr>
              <a:xfrm>
                <a:off x="1405080" y="2625840"/>
                <a:ext cx="11509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8  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Text Box 33"/>
              <p:cNvSpPr/>
              <p:nvPr/>
            </p:nvSpPr>
            <p:spPr>
              <a:xfrm>
                <a:off x="1003320" y="301644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  0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1" name=""/>
              <p:cNvGrpSpPr/>
              <p:nvPr/>
            </p:nvGrpSpPr>
            <p:grpSpPr>
              <a:xfrm>
                <a:off x="1108080" y="3519720"/>
                <a:ext cx="1095480" cy="360"/>
                <a:chOff x="1108080" y="3519720"/>
                <a:chExt cx="1095480" cy="360"/>
              </a:xfrm>
            </p:grpSpPr>
            <p:sp>
              <p:nvSpPr>
                <p:cNvPr id="1152" name="Line 34"/>
                <p:cNvSpPr/>
                <p:nvPr/>
              </p:nvSpPr>
              <p:spPr>
                <a:xfrm>
                  <a:off x="1108080" y="3519720"/>
                  <a:ext cx="1095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"/>
                <p:cNvSpPr txBox="1"/>
                <p:nvPr/>
              </p:nvSpPr>
              <p:spPr>
                <a:xfrm>
                  <a:off x="1108080" y="3519720"/>
                  <a:ext cx="1095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4" name="Rectangle 17"/>
              <p:cNvSpPr/>
              <p:nvPr/>
            </p:nvSpPr>
            <p:spPr>
              <a:xfrm>
                <a:off x="176220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Rectangle 17"/>
              <p:cNvSpPr/>
              <p:nvPr/>
            </p:nvSpPr>
            <p:spPr>
              <a:xfrm>
                <a:off x="142416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6" name="Group 65"/>
            <p:cNvGrpSpPr/>
            <p:nvPr/>
          </p:nvGrpSpPr>
          <p:grpSpPr>
            <a:xfrm>
              <a:off x="2502000" y="2813400"/>
              <a:ext cx="1662120" cy="1141200"/>
              <a:chOff x="2502000" y="2813400"/>
              <a:chExt cx="1662120" cy="1141200"/>
            </a:xfrm>
          </p:grpSpPr>
          <p:sp>
            <p:nvSpPr>
              <p:cNvPr id="1157" name="Text Box 44"/>
              <p:cNvSpPr/>
              <p:nvPr/>
            </p:nvSpPr>
            <p:spPr>
              <a:xfrm>
                <a:off x="2502000" y="3019680"/>
                <a:ext cx="1662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  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  6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8" name=""/>
              <p:cNvGrpSpPr/>
              <p:nvPr/>
            </p:nvGrpSpPr>
            <p:grpSpPr>
              <a:xfrm>
                <a:off x="2603520" y="3519720"/>
                <a:ext cx="1093680" cy="360"/>
                <a:chOff x="2603520" y="3519720"/>
                <a:chExt cx="1093680" cy="360"/>
              </a:xfrm>
            </p:grpSpPr>
            <p:sp>
              <p:nvSpPr>
                <p:cNvPr id="1159" name="Line 45"/>
                <p:cNvSpPr/>
                <p:nvPr/>
              </p:nvSpPr>
              <p:spPr>
                <a:xfrm>
                  <a:off x="2603520" y="3519720"/>
                  <a:ext cx="10936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"/>
                <p:cNvSpPr txBox="1"/>
                <p:nvPr/>
              </p:nvSpPr>
              <p:spPr>
                <a:xfrm>
                  <a:off x="2603520" y="3519720"/>
                  <a:ext cx="10936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1" name="Rectangle 17"/>
              <p:cNvSpPr/>
              <p:nvPr/>
            </p:nvSpPr>
            <p:spPr>
              <a:xfrm>
                <a:off x="3006720" y="28148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Rectangle 17"/>
              <p:cNvSpPr/>
              <p:nvPr/>
            </p:nvSpPr>
            <p:spPr>
              <a:xfrm>
                <a:off x="334476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Rectangle 17"/>
              <p:cNvSpPr/>
              <p:nvPr/>
            </p:nvSpPr>
            <p:spPr>
              <a:xfrm>
                <a:off x="3006720" y="364824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Rectangle 17"/>
              <p:cNvSpPr/>
              <p:nvPr/>
            </p:nvSpPr>
            <p:spPr>
              <a:xfrm>
                <a:off x="3346560" y="2813400"/>
                <a:ext cx="306360" cy="306360"/>
              </a:xfrm>
              <a:prstGeom prst="rect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5" name="椭圆 384"/>
          <p:cNvSpPr/>
          <p:nvPr/>
        </p:nvSpPr>
        <p:spPr>
          <a:xfrm>
            <a:off x="3139920" y="2690640"/>
            <a:ext cx="4608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6" name="组合 47"/>
          <p:cNvGrpSpPr/>
          <p:nvPr/>
        </p:nvGrpSpPr>
        <p:grpSpPr>
          <a:xfrm>
            <a:off x="285840" y="4299120"/>
            <a:ext cx="4468680" cy="1591920"/>
            <a:chOff x="285840" y="4299120"/>
            <a:chExt cx="4468680" cy="1591920"/>
          </a:xfrm>
        </p:grpSpPr>
        <p:sp>
          <p:nvSpPr>
            <p:cNvPr id="1167" name="AutoShape 47"/>
            <p:cNvSpPr/>
            <p:nvPr/>
          </p:nvSpPr>
          <p:spPr>
            <a:xfrm>
              <a:off x="1908360" y="4744800"/>
              <a:ext cx="2846160" cy="891000"/>
            </a:xfrm>
            <a:prstGeom prst="wedgeRoundRectCallout">
              <a:avLst>
                <a:gd name="adj1" fmla="val -60027"/>
                <a:gd name="adj2" fmla="val 110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4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0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4</a:t>
              </a: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能口算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可以不写竖式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8" name="图片 22" descr="1.jpg"/>
            <p:cNvPicPr/>
            <p:nvPr/>
          </p:nvPicPr>
          <p:blipFill>
            <a:blip r:embed="rId1"/>
            <a:stretch/>
          </p:blipFill>
          <p:spPr>
            <a:xfrm>
              <a:off x="285840" y="4299120"/>
              <a:ext cx="1214280" cy="159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9" name="组合 49"/>
          <p:cNvGrpSpPr/>
          <p:nvPr/>
        </p:nvGrpSpPr>
        <p:grpSpPr>
          <a:xfrm>
            <a:off x="6877080" y="2440080"/>
            <a:ext cx="2052720" cy="3336840"/>
            <a:chOff x="6877080" y="2440080"/>
            <a:chExt cx="2052720" cy="3336840"/>
          </a:xfrm>
        </p:grpSpPr>
        <p:sp>
          <p:nvSpPr>
            <p:cNvPr id="1170" name="AutoShape 48"/>
            <p:cNvSpPr/>
            <p:nvPr/>
          </p:nvSpPr>
          <p:spPr>
            <a:xfrm>
              <a:off x="6877080" y="2440080"/>
              <a:ext cx="1703520" cy="1681200"/>
            </a:xfrm>
            <a:prstGeom prst="wedgeRoundRectCallout">
              <a:avLst>
                <a:gd name="adj1" fmla="val -1916"/>
                <a:gd name="adj2" fmla="val 60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还可以先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共运走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个。怎么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列式呢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1" name="图片 48" descr="2.tif"/>
            <p:cNvPicPr/>
            <p:nvPr/>
          </p:nvPicPr>
          <p:blipFill>
            <a:blip r:embed="rId2"/>
            <a:stretch/>
          </p:blipFill>
          <p:spPr>
            <a:xfrm>
              <a:off x="7858080" y="4227480"/>
              <a:ext cx="1071720" cy="1549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2" name="八边形 7"/>
          <p:cNvSpPr/>
          <p:nvPr/>
        </p:nvSpPr>
        <p:spPr>
          <a:xfrm>
            <a:off x="600120" y="779400"/>
            <a:ext cx="51588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"/>
                            </p:stCondLst>
                            <p:childTnLst>
                              <p:par>
                                <p:cTn id="28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"/>
                            </p:stCondLst>
                            <p:childTnLst>
                              <p:par>
                                <p:cTn id="32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"/>
                            </p:stCondLst>
                            <p:childTnLst>
                              <p:par>
                                <p:cTn id="3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3"/>
                            </p:stCondLst>
                            <p:childTnLst>
                              <p:par>
                                <p:cTn id="32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4"/>
                            </p:stCondLst>
                            <p:childTnLst>
                              <p:par>
                                <p:cTn id="33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"/>
                            </p:stCondLst>
                            <p:childTnLst>
                              <p:par>
                                <p:cTn id="33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"/>
                            </p:stCondLst>
                            <p:childTnLst>
                              <p:par>
                                <p:cTn id="34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2"/>
                            </p:stCondLst>
                            <p:childTnLst>
                              <p:par>
                                <p:cTn id="34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3"/>
                            </p:stCondLst>
                            <p:childTnLst>
                              <p:par>
                                <p:cTn id="34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TextBox 44"/>
          <p:cNvSpPr/>
          <p:nvPr/>
        </p:nvSpPr>
        <p:spPr>
          <a:xfrm>
            <a:off x="2689200" y="2682720"/>
            <a:ext cx="48564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算一共运走的南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Box 45"/>
          <p:cNvSpPr/>
          <p:nvPr/>
        </p:nvSpPr>
        <p:spPr>
          <a:xfrm>
            <a:off x="1805400" y="3141720"/>
            <a:ext cx="1643760" cy="53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算还剩的南瓜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Box 43"/>
          <p:cNvSpPr/>
          <p:nvPr/>
        </p:nvSpPr>
        <p:spPr>
          <a:xfrm>
            <a:off x="4446720" y="2660760"/>
            <a:ext cx="17096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Box 46"/>
          <p:cNvSpPr/>
          <p:nvPr/>
        </p:nvSpPr>
        <p:spPr>
          <a:xfrm>
            <a:off x="4437000" y="3105000"/>
            <a:ext cx="1935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Box 47"/>
          <p:cNvSpPr/>
          <p:nvPr/>
        </p:nvSpPr>
        <p:spPr>
          <a:xfrm>
            <a:off x="5936760" y="266076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6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extBox 48"/>
          <p:cNvSpPr/>
          <p:nvPr/>
        </p:nvSpPr>
        <p:spPr>
          <a:xfrm>
            <a:off x="5909760" y="3102120"/>
            <a:ext cx="1140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18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10"/>
          <p:cNvSpPr/>
          <p:nvPr/>
        </p:nvSpPr>
        <p:spPr>
          <a:xfrm>
            <a:off x="733320" y="1628640"/>
            <a:ext cx="81075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共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8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大南瓜，李大爷运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，王叔叔运走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个。还剩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Rectangle 73"/>
          <p:cNvSpPr/>
          <p:nvPr/>
        </p:nvSpPr>
        <p:spPr>
          <a:xfrm>
            <a:off x="18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3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84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2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三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Box 32"/>
          <p:cNvSpPr/>
          <p:nvPr/>
        </p:nvSpPr>
        <p:spPr>
          <a:xfrm>
            <a:off x="420840" y="933480"/>
            <a:ext cx="8448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用竖式计算连减算式时，同连加一样，可以列两个竖式计算。为了简便，也可以把两个竖式合并成一个竖式进行计算，哪一步能口算就口算，不用列竖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、算一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7=          8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6=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9=          6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9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3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32=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8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42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97" name="圆角矩形 3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99" name="椭圆 18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07" name="文本框 8"/>
          <p:cNvSpPr/>
          <p:nvPr/>
        </p:nvSpPr>
        <p:spPr>
          <a:xfrm>
            <a:off x="2440080" y="22924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文本框 9"/>
          <p:cNvSpPr/>
          <p:nvPr/>
        </p:nvSpPr>
        <p:spPr>
          <a:xfrm>
            <a:off x="6184800" y="23050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文本框 10"/>
          <p:cNvSpPr/>
          <p:nvPr/>
        </p:nvSpPr>
        <p:spPr>
          <a:xfrm>
            <a:off x="2473200" y="316548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文本框 11"/>
          <p:cNvSpPr/>
          <p:nvPr/>
        </p:nvSpPr>
        <p:spPr>
          <a:xfrm>
            <a:off x="6213600" y="3165480"/>
            <a:ext cx="8269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2"/>
          <p:cNvSpPr/>
          <p:nvPr/>
        </p:nvSpPr>
        <p:spPr>
          <a:xfrm>
            <a:off x="2465280" y="402120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3"/>
          <p:cNvSpPr/>
          <p:nvPr/>
        </p:nvSpPr>
        <p:spPr>
          <a:xfrm>
            <a:off x="6140520" y="4003560"/>
            <a:ext cx="82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"/>
          <p:cNvSpPr txBox="1"/>
          <p:nvPr/>
        </p:nvSpPr>
        <p:spPr>
          <a:xfrm>
            <a:off x="456840" y="1600200"/>
            <a:ext cx="8574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、我会填“＞”“＜”或“＝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2      8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    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      9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    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Rectangle 73"/>
          <p:cNvSpPr/>
          <p:nvPr/>
        </p:nvSpPr>
        <p:spPr>
          <a:xfrm>
            <a:off x="27720" y="5224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绿色圃中小学教育网</a:t>
            </a:r>
            <a:r>
              <a:rPr b="1" lang="en-US" sz="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Oval 5586"/>
          <p:cNvSpPr/>
          <p:nvPr/>
        </p:nvSpPr>
        <p:spPr>
          <a:xfrm>
            <a:off x="2263680" y="2212920"/>
            <a:ext cx="29232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Oval 5586"/>
          <p:cNvSpPr/>
          <p:nvPr/>
        </p:nvSpPr>
        <p:spPr>
          <a:xfrm>
            <a:off x="6672240" y="2212920"/>
            <a:ext cx="291960" cy="262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Oval 5586"/>
          <p:cNvSpPr/>
          <p:nvPr/>
        </p:nvSpPr>
        <p:spPr>
          <a:xfrm>
            <a:off x="2316240" y="2755800"/>
            <a:ext cx="291960" cy="31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Oval 5586"/>
          <p:cNvSpPr/>
          <p:nvPr/>
        </p:nvSpPr>
        <p:spPr>
          <a:xfrm>
            <a:off x="6672240" y="2705040"/>
            <a:ext cx="291960" cy="31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文本框 8"/>
          <p:cNvSpPr/>
          <p:nvPr/>
        </p:nvSpPr>
        <p:spPr>
          <a:xfrm>
            <a:off x="2212920" y="2151000"/>
            <a:ext cx="3747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宋体"/>
                <a:ea typeface="宋体"/>
              </a:rPr>
              <a:t>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文本框 9"/>
          <p:cNvSpPr/>
          <p:nvPr/>
        </p:nvSpPr>
        <p:spPr>
          <a:xfrm>
            <a:off x="6659640" y="2114640"/>
            <a:ext cx="2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文本框 10"/>
          <p:cNvSpPr/>
          <p:nvPr/>
        </p:nvSpPr>
        <p:spPr>
          <a:xfrm>
            <a:off x="2239920" y="2670120"/>
            <a:ext cx="34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文本框 11"/>
          <p:cNvSpPr/>
          <p:nvPr/>
        </p:nvSpPr>
        <p:spPr>
          <a:xfrm>
            <a:off x="6578640" y="262260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0:28:36Z</dcterms:modified>
  <cp:revision>5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